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lson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cialworkers.org/pubs/code/default.asp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MR110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Ethics and Social Responsibility in Marketing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lson Take Ca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opening Vignette “At Molson, There is more brewing than beer” raises some interesting and contraversial points as to what a business’ roles is in our societ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ajor question becomes: “Why would a business do things like Molson is doing if it has no direct impact on sales?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olson.c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are the moral principles and values that govern the actions and decisions of an individual grou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are not Laws.  Laws are enforceable by the courts whereas ethics are no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thical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y is Ethics so talked about in Business now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increased pressure on business to make decisions in a society characterized by a diverse value syste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siness decision are judged publicly by groups that have a diverse values and intere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blic expectations have ris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siness conduct may be getting more unethic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thical Behaviour is molded by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etal fo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values, ideas and attitudes of societ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/Industry cul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is acceptable in the industry in which the business operat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al culture &amp; expect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sideration internal to the business – the written and unwritten rules of how a business operat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written Code of Ethics usually outlines the expected level of ethical standard in an organization. (eg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ocialworkers.org/pubs/code/default.asp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wo major issue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dustrial espionage is spying on other busi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ibes are payments made to ensure a deal is mad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als vs. the Jo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ny individuals are caught between conflicting goals of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) Moral Idealism – a personal philosophy of what is right and,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)Utilitarianism – providing the greatest good for the most numb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al Responsi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s are part of society and are accountable to society for their actio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lud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 a responsibility to make a profit so as to remain in business and contribute to society by providing jobs, services, et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 Stakeholder responsibility - to those directly affected by the busines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 Societal responsibility – to those in greater socie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al Audi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ssessment to ensure that a business is being socially responsible to stakeholders and socie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2:46:54Z</dcterms:created>
  <dc:creator>Paul Tilley</dc:creator>
  <dc:description/>
  <dc:language>en-US</dc:language>
  <cp:lastModifiedBy>Tilley, Paul (C'ville)</cp:lastModifiedBy>
  <dcterms:modified xsi:type="dcterms:W3CDTF">2011-10-18T12:56:58Z</dcterms:modified>
  <cp:revision>4</cp:revision>
  <dc:subject/>
  <dc:title>Ethics and Social Responsibility in Marketing</dc:title>
</cp:coreProperties>
</file>